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3DE-E3FD-46A7-8B95-B881490F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549-AF0D-4AF6-BE49-14ED5405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14F-D3E9-44ED-B867-A247F977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2BA-557B-47F7-A4A1-CE129DB0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95D-86EF-489C-A8B4-3BFCCE07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BF2-AC38-4782-8B3C-E4237030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FB4-DD1D-4D92-A9A9-7D4D2032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547-CAE3-4828-BBD4-F1C1B7FA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878-5565-4E89-84DF-B6528A44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281-6FA4-4FB9-AE0C-2A4963F9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8AF-2229-4D56-8C3D-45222C92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DB6-B8A4-47B6-AE07-791F6F8D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3B4B-E8D5-47C5-BCA6-FD799ADC0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xyborx.dk/pictures/computers/laptop.jpg&amp;imgrefurl=http://www.xyborx.dk/computers.php&amp;h=1200&amp;w=1600&amp;sz=366&amp;tbnid=qdFVuLprOrJ_sM:&amp;tbnh=112&amp;tbnw=150&amp;hl=en&amp;start=5&amp;prev=/images%3Fq%3Dcomputers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/imgres?imgurl=http://www.globalgraffiti.net/computers/3975.jpg&amp;imgrefurl=http://www.globalgraffiti.net/computers/&amp;h=299&amp;w=208&amp;sz=11&amp;tbnid=LVUKoFZMU24h1M:&amp;tbnh=111&amp;tbnw=77&amp;hl=en&amp;start=6&amp;prev=/images%3Fq%3Dcomputers%26svnum%3D10%26hl%3Den%26lr%3D%26sa%3D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psd48.ab.ca/hpe/computers.JPG&amp;imgrefurl=http://www.hpsd48.ab.ca/hpe/&amp;h=1200&amp;w=1792&amp;sz=438&amp;tbnid=UUyueiQod3CvbM:&amp;tbnh=100&amp;tbnw=150&amp;hl=en&amp;start=85&amp;prev=/images%3Fq%3Dcomputers%26start%3D80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ibrary.bhbl.neric.org/chmc/students%2520working%2520at%2520computers.JPG&amp;imgrefurl=http://library.bhbl.neric.org/chmc/&amp;h=912&amp;w=1216&amp;sz=174&amp;tbnid=aH5beTqfBjkMoM:&amp;tbnh=112&amp;tbnw=150&amp;hl=en&amp;start=37&amp;prev=/images%3Fq%3Dcomputers%26start%3D20%26svnum%3D10%26hl%3Den%26lr%3D%26sa%3D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bank.ipcmedia.com/imageBank/f/Free-Downloads.jpg&amp;imgrefurl=http://www.webuser.co.uk/specials/41396.html&amp;h=240&amp;w=240&amp;sz=14&amp;tbnid=nnS1Re0kI0HmVM:&amp;tbnh=104&amp;tbnw=104&amp;hl=en&amp;start=1&amp;prev=/images%3Fq%3Dfree%2Bsoftware%26svnum%3D10%26hl%3Den%26lr%3D%26sa%3D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linux.md/wallpapers/16476-Ask-about-Free-Software.jpg&amp;imgrefurl=http://linux.md/mod/wall/&amp;h=1200&amp;w=1600&amp;sz=172&amp;tbnid=aaM6dwTfiVTdXM:&amp;tbnh=112&amp;tbnw=150&amp;hl=en&amp;start=18&amp;prev=/images%3Fq%3Dfree%2Bsoftware%26svnum%3D10%26hl%3Den%26lr%3D%26sa%3D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 in the Classro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lick at your leisu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e Cor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Eastern School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rk,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esk"/>
          <p:cNvPicPr/>
          <p:nvPr/>
        </p:nvPicPr>
        <p:blipFill>
          <a:blip r:embed="rId1"/>
          <a:stretch/>
        </p:blipFill>
        <p:spPr>
          <a:xfrm>
            <a:off x="3048120" y="0"/>
            <a:ext cx="30798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gives children a sense of </a:t>
            </a: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ownership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 the assignme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tudents-working-on-project"/>
          <p:cNvPicPr/>
          <p:nvPr/>
        </p:nvPicPr>
        <p:blipFill>
          <a:blip r:embed="rId1"/>
          <a:stretch/>
        </p:blipFill>
        <p:spPr>
          <a:xfrm>
            <a:off x="1066680" y="1828800"/>
            <a:ext cx="6096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nership leads to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otiv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omputers"/>
          <p:cNvPicPr/>
          <p:nvPr/>
        </p:nvPicPr>
        <p:blipFill>
          <a:blip r:embed="rId1"/>
          <a:stretch/>
        </p:blipFill>
        <p:spPr>
          <a:xfrm>
            <a:off x="3200400" y="2286000"/>
            <a:ext cx="304812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 leads to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spira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evik"/>
          <p:cNvPicPr/>
          <p:nvPr/>
        </p:nvPicPr>
        <p:blipFill>
          <a:blip r:embed="rId1"/>
          <a:stretch/>
        </p:blipFill>
        <p:spPr>
          <a:xfrm>
            <a:off x="3589200" y="2971800"/>
            <a:ext cx="2368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byproducts of motiv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100% on task focu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tically decreased behavioral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-center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take a facilitator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of what I 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stia”-free astronomy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up2"/>
          <p:cNvPicPr/>
          <p:nvPr/>
        </p:nvPicPr>
        <p:blipFill>
          <a:blip r:embed="rId1"/>
          <a:stretch/>
        </p:blipFill>
        <p:spPr>
          <a:xfrm>
            <a:off x="685800" y="2651040"/>
            <a:ext cx="58672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jup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ky is not the limit with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olog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08320" y="4259160"/>
            <a:ext cx="477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educators use technology in their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nee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students how to behave and treat the equipment  befo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t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hoto_043005_001"/>
          <p:cNvPicPr/>
          <p:nvPr/>
        </p:nvPicPr>
        <p:blipFill>
          <a:blip r:embed="rId1"/>
          <a:stretch/>
        </p:blipFill>
        <p:spPr>
          <a:xfrm>
            <a:off x="4267080" y="2347920"/>
            <a:ext cx="441972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ke to take a good four to six weeks at the beginning of the school year teaching the students how to act like learners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n’t know that I am doing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ensures a trouble free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earn to meet my expecta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hoto_090605_00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technology i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ece of equipment is numbered and invento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every student or group a number so they use the same compu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lapto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47960"/>
            <a:ext cx="38098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stablishes a sens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er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be in charge of putting away thei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quipment (pc’s, laptops, handhelds, probeware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ab"/>
          <p:cNvPicPr/>
          <p:nvPr/>
        </p:nvPicPr>
        <p:blipFill>
          <a:blip r:embed="rId1"/>
          <a:stretch/>
        </p:blipFill>
        <p:spPr>
          <a:xfrm>
            <a:off x="4724280" y="1981080"/>
            <a:ext cx="3829320" cy="287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39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5029200"/>
            <a:ext cx="1103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implement this into our curriculum?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compu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590920"/>
            <a:ext cx="5257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Point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s/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tudents%2520working%2520at%2520compu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2590920"/>
            <a:ext cx="3952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even specif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ftware you can us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it on the we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Free-Downloa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2971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16476-Ask-about-Free-Softwa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4330800"/>
            <a:ext cx="259056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ever the Application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 students an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end product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tangible (best) or intangible (o.k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hoto_090605_00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2:56:37Z</dcterms:created>
  <dc:creator>west04169</dc:creator>
  <dc:description/>
  <dc:language>en-US</dc:language>
  <cp:lastModifiedBy>corbind</cp:lastModifiedBy>
  <dcterms:modified xsi:type="dcterms:W3CDTF">2009-02-25T19:34:50Z</dcterms:modified>
  <cp:revision>12</cp:revision>
  <dc:subject/>
  <dc:title>Technology in the Classroom</dc:title>
</cp:coreProperties>
</file>